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108C-0832-4556-8B67-5ED9B1097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hold 199918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hold 199918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hold 1999601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hold 1999601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usehold 19993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flipH="1">
            <a:off x="1981080" y="2895480"/>
            <a:ext cx="7010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1972" t="13026" r="19435" b="18616"/>
          <a:stretch/>
        </p:blipFill>
        <p:spPr>
          <a:xfrm>
            <a:off x="0" y="0"/>
            <a:ext cx="3919680" cy="685800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ildren and Liv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rangements in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urrent Population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rvey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362320" y="5409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ilip N. Co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iversity of California, Irv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ildren in Multigenerational Household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600200" y="327672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ildren in Multigenerational Household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lfare receiving families (previous year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ngle mothers with other adults presen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ngle mothers with other adults present with employment/population ratio chang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ngle mothers with other adults present: OLS regression for trendlin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1676520"/>
            <a:ext cx="670572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r" pos="2747880"/>
                <a:tab algn="r" pos="4110120"/>
                <a:tab algn="r" pos="54831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ac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2747880"/>
                <a:tab algn="r" pos="4110120"/>
                <a:tab algn="r" pos="54831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ce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25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29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2747880"/>
                <a:tab algn="r" pos="4110120"/>
                <a:tab algn="r" pos="54831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002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.001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007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2747880"/>
                <a:tab algn="r" pos="4110120"/>
                <a:tab algn="r" pos="54831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p/Pop Ch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.17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.010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.252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r" pos="2747880"/>
                <a:tab algn="r" pos="4110120"/>
                <a:tab algn="r" pos="54831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2747880"/>
                <a:tab algn="r" pos="4110120"/>
                <a:tab algn="r" pos="54831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j. R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4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2747880"/>
                <a:tab algn="r" pos="4110120"/>
                <a:tab algn="r" pos="54831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26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2747880"/>
                <a:tab algn="r" pos="4110120"/>
                <a:tab algn="r" pos="54831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lt; .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209680"/>
            <a:ext cx="5562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3962520"/>
            <a:ext cx="5562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648320"/>
            <a:ext cx="5562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ildren Living with Mother Onl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ildren Living with Mother Onl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600200" y="464832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ildren Living with Father Onl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ildren Living with Father Onl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-year longitudinal matching with complex househo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generational household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le mothers living with other ad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le mother and father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35360" y="1905120"/>
            <a:ext cx="2297520" cy="13726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ophie, 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ido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igh school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, part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ursing a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16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44080" y="609480"/>
            <a:ext cx="2038320" cy="946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Jessica, 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ido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ddle school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 em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20960" y="3733920"/>
            <a:ext cx="2297520" cy="1372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ggie,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ver marr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igh school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, part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ursing a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15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01080" y="5562720"/>
            <a:ext cx="657720" cy="52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y,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y,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1" idx="0"/>
          </p:cNvCxnSpPr>
          <p:nvPr/>
        </p:nvCxnSpPr>
        <p:spPr>
          <a:xfrm>
            <a:off x="4863960" y="1561680"/>
            <a:ext cx="21600" cy="3150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1" idx="2"/>
            <a:endCxn id="53" idx="0"/>
          </p:cNvCxnSpPr>
          <p:nvPr/>
        </p:nvCxnSpPr>
        <p:spPr>
          <a:xfrm flipH="1">
            <a:off x="4870080" y="3358800"/>
            <a:ext cx="15120" cy="3754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2"/>
            <a:endCxn id="54" idx="0"/>
          </p:cNvCxnSpPr>
          <p:nvPr/>
        </p:nvCxnSpPr>
        <p:spPr>
          <a:xfrm flipH="1">
            <a:off x="4830480" y="5111280"/>
            <a:ext cx="40320" cy="4518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533520" y="6070680"/>
            <a:ext cx="308556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All members Black, non-Lati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160" y="358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71000" y="1905120"/>
            <a:ext cx="2229120" cy="13726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ophie, 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ido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igh school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,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ull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ursing a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19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55160" y="3733920"/>
            <a:ext cx="2229120" cy="1372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ggie,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ver marr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igh school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,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ull-year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ursing a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18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01080" y="5562720"/>
            <a:ext cx="65772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y,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0" idx="2"/>
            <a:endCxn id="61" idx="0"/>
          </p:cNvCxnSpPr>
          <p:nvPr/>
        </p:nvCxnSpPr>
        <p:spPr>
          <a:xfrm flipH="1">
            <a:off x="4870080" y="3358800"/>
            <a:ext cx="16560" cy="3754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61" idx="2"/>
            <a:endCxn id="62" idx="0"/>
          </p:cNvCxnSpPr>
          <p:nvPr/>
        </p:nvCxnSpPr>
        <p:spPr>
          <a:xfrm flipH="1">
            <a:off x="4830480" y="5111280"/>
            <a:ext cx="40320" cy="4518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33520" y="6070680"/>
            <a:ext cx="308556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All members Black, non-Lati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160" y="358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791320" y="6400800"/>
            <a:ext cx="311436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All members White, non-Lati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2057400"/>
            <a:ext cx="2970360" cy="1159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b, 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 part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wing machine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20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80320" y="2057400"/>
            <a:ext cx="2184840" cy="1159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y,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 full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duction insp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20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24680" y="533520"/>
            <a:ext cx="1863360" cy="946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ylvia, 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ido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 em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46880" y="3886200"/>
            <a:ext cx="218484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retchen,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sociate’s deg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 full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ffice supervi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23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8120" y="3886200"/>
            <a:ext cx="225324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ich, 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ome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 part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wing machine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23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5791320"/>
            <a:ext cx="67752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irl,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0" idx="2"/>
            <a:endCxn id="69" idx="0"/>
          </p:cNvCxnSpPr>
          <p:nvPr/>
        </p:nvCxnSpPr>
        <p:spPr>
          <a:xfrm>
            <a:off x="6156360" y="1486080"/>
            <a:ext cx="18000" cy="5529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4572000" y="251460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8" idx="2"/>
            <a:endCxn id="71" idx="0"/>
          </p:cNvCxnSpPr>
          <p:nvPr/>
        </p:nvCxnSpPr>
        <p:spPr>
          <a:xfrm>
            <a:off x="3009960" y="3269880"/>
            <a:ext cx="1830960" cy="6166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3276720" y="441972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1" idx="2"/>
            <a:endCxn id="73" idx="0"/>
          </p:cNvCxnSpPr>
          <p:nvPr/>
        </p:nvCxnSpPr>
        <p:spPr>
          <a:xfrm>
            <a:off x="4839840" y="5051160"/>
            <a:ext cx="1080" cy="74052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33160" y="358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791320" y="6400800"/>
            <a:ext cx="311436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All members White, non-Lati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03640" y="2057400"/>
            <a:ext cx="3160080" cy="1159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b, 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 part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Separating/clarifying/filtering 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22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80320" y="2057400"/>
            <a:ext cx="2184840" cy="1159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y,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 full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duction insp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22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24680" y="533520"/>
            <a:ext cx="1863360" cy="946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ylvia, 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ido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 em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46880" y="3886200"/>
            <a:ext cx="218484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retchen,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sociate’s deg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 full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ffice supervi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25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03760" y="3886200"/>
            <a:ext cx="218520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ich, 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ome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ull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Prison gu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27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3" idx="2"/>
            <a:endCxn id="82" idx="0"/>
          </p:cNvCxnSpPr>
          <p:nvPr/>
        </p:nvCxnSpPr>
        <p:spPr>
          <a:xfrm>
            <a:off x="6156360" y="1486080"/>
            <a:ext cx="18000" cy="5529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572000" y="251460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1" idx="2"/>
            <a:endCxn id="84" idx="0"/>
          </p:cNvCxnSpPr>
          <p:nvPr/>
        </p:nvCxnSpPr>
        <p:spPr>
          <a:xfrm>
            <a:off x="2984040" y="3269880"/>
            <a:ext cx="1856520" cy="6166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3276720" y="441972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160" y="358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5791320"/>
            <a:ext cx="67752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irl,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endCxn id="91" idx="0"/>
          </p:cNvCxnSpPr>
          <p:nvPr/>
        </p:nvCxnSpPr>
        <p:spPr>
          <a:xfrm>
            <a:off x="4839840" y="5051160"/>
            <a:ext cx="1080" cy="74052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363560" y="6400800"/>
            <a:ext cx="471780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All members Latino except Angela’s children (Wh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31480"/>
            <a:ext cx="228600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ia, 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pa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reign born, non-citi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 em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1792800"/>
            <a:ext cx="1981440" cy="1585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ngela, 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vor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at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reign born, citi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tcher / meat-cu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19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4033800"/>
            <a:ext cx="1600200" cy="733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ta,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eresa,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.S. b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21680"/>
            <a:ext cx="2666880" cy="1372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loria, 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relative of Angel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reign born, non-citi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ddle school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and packer / pack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21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4077720"/>
            <a:ext cx="190512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ke,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.S. b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th grade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vate gu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9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077720"/>
            <a:ext cx="243828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nna,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reign born, non-citi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ttends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ai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3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5794920"/>
            <a:ext cx="99072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harlie,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4" idx="2"/>
            <a:endCxn id="95" idx="0"/>
          </p:cNvCxnSpPr>
          <p:nvPr/>
        </p:nvCxnSpPr>
        <p:spPr>
          <a:xfrm>
            <a:off x="4571640" y="1393920"/>
            <a:ext cx="1080" cy="36432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200400" y="466884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98" idx="2"/>
            <a:endCxn id="100" idx="0"/>
          </p:cNvCxnSpPr>
          <p:nvPr/>
        </p:nvCxnSpPr>
        <p:spPr>
          <a:xfrm>
            <a:off x="4533480" y="5239800"/>
            <a:ext cx="1080" cy="55152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5" idx="3"/>
            <a:endCxn id="97" idx="1"/>
          </p:cNvCxnSpPr>
          <p:nvPr/>
        </p:nvCxnSpPr>
        <p:spPr>
          <a:xfrm>
            <a:off x="5581800" y="2585880"/>
            <a:ext cx="667440" cy="23040"/>
          </a:xfrm>
          <a:prstGeom prst="straightConnector1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</p:cxnSp>
      <p:cxnSp>
        <p:nvCxnSpPr>
          <p:cNvPr id="105" name=""/>
          <p:cNvCxnSpPr>
            <a:stCxn id="95" idx="2"/>
            <a:endCxn id="96" idx="0"/>
          </p:cNvCxnSpPr>
          <p:nvPr/>
        </p:nvCxnSpPr>
        <p:spPr>
          <a:xfrm flipH="1" rot="16200000">
            <a:off x="5310720" y="2674440"/>
            <a:ext cx="616680" cy="2096280"/>
          </a:xfrm>
          <a:prstGeom prst="bentConnector3">
            <a:avLst>
              <a:gd name="adj1" fmla="val 48422"/>
            </a:avLst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endCxn id="98" idx="0"/>
          </p:cNvCxnSpPr>
          <p:nvPr/>
        </p:nvCxnSpPr>
        <p:spPr>
          <a:xfrm flipH="1">
            <a:off x="4533480" y="3582720"/>
            <a:ext cx="38880" cy="49284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533160" y="358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429000" y="231480"/>
            <a:ext cx="228600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ia, 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pa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reign born, non-citi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 em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1792800"/>
            <a:ext cx="1981440" cy="1585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ngela, 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vor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at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reign born, citi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tcher / meat-cu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18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4033800"/>
            <a:ext cx="1600200" cy="733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ta,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eresa,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.S. b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3971160"/>
            <a:ext cx="1905120" cy="1372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ke,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.S. b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th grade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vate gu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11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Never marri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8" idx="2"/>
            <a:endCxn id="109" idx="0"/>
          </p:cNvCxnSpPr>
          <p:nvPr/>
        </p:nvCxnSpPr>
        <p:spPr>
          <a:xfrm>
            <a:off x="4571640" y="1393920"/>
            <a:ext cx="1080" cy="36432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9" idx="2"/>
            <a:endCxn id="110" idx="0"/>
          </p:cNvCxnSpPr>
          <p:nvPr/>
        </p:nvCxnSpPr>
        <p:spPr>
          <a:xfrm flipH="1" rot="16200000">
            <a:off x="5310720" y="2674440"/>
            <a:ext cx="616680" cy="2096280"/>
          </a:xfrm>
          <a:prstGeom prst="bentConnector3">
            <a:avLst>
              <a:gd name="adj1" fmla="val 48422"/>
            </a:avLst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endCxn id="111" idx="0"/>
          </p:cNvCxnSpPr>
          <p:nvPr/>
        </p:nvCxnSpPr>
        <p:spPr>
          <a:xfrm flipH="1">
            <a:off x="4533480" y="3476160"/>
            <a:ext cx="38880" cy="49284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143000" y="4079520"/>
            <a:ext cx="1600200" cy="946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Angela,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U.S. b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ood p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4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H="1" flipV="1" rot="5400000">
            <a:off x="3032640" y="2537280"/>
            <a:ext cx="450000" cy="2629440"/>
          </a:xfrm>
          <a:prstGeom prst="bentConnector2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533160" y="358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3560" y="6400800"/>
            <a:ext cx="471780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All members Latino except Angela’s children (Wh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ildren in Multigenerational Household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23:18:56Z</dcterms:created>
  <dc:creator>sscsnt</dc:creator>
  <dc:description/>
  <dc:language>en-US</dc:language>
  <cp:lastModifiedBy>Hoda Makar</cp:lastModifiedBy>
  <dcterms:modified xsi:type="dcterms:W3CDTF">2003-11-09T18:43:06Z</dcterms:modified>
  <cp:revision>21</cp:revision>
  <dc:subject/>
  <dc:title>Children’s Living Arrangements in the Current Population Survey</dc:title>
</cp:coreProperties>
</file>